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3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D88-5A88-4F98-9722-8042D214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3E5-CA87-46AA-884C-E8ED2CBBA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B9C-C791-4636-8D8E-FB0CAF4E4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purposefully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AB2-FB4F-41E8-A5E2-25A1468ED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0FB-042F-42AA-A12E-3D8BCA769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5B0-A858-401A-82F1-E448882EF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F0D-E0CA-486A-A7AE-694297D81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BFC-72C3-4435-A577-9046E074B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CF88-6A8E-4B07-A4DE-4DF1299864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97D-7D82-4CBB-B546-3736667B4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37A3-2864-4819-B718-CF3EE36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00CE-E28B-430C-8CCA-70E730C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826A-EC86-4219-A196-F682013B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6F12-E875-423E-8050-9B3CB9DF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8C1-AA95-4924-BFA3-8BF3CC67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830-C90E-4DEA-B457-99A632F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3E0-BD10-45E8-8D1D-AD7AE06B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020-05FF-47F3-B47C-C84EA60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8EC-6BB2-4F4C-ABA4-0519F55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39AE-85AE-4286-8242-CD844A8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5B1-3D2B-43A9-A57C-ECCBC12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D399-AA7C-4FAA-AAAB-2175C6F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D3D-7A3E-4620-A51A-826EA08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AFE5-7A4C-46BB-9326-1E40256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A92C-19A9-4007-91A3-D8F6645B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C47-6240-4E8F-A232-104F0EC1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FD84-05B8-4D2A-9384-0AC88782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3DD2-AB9B-406B-9CE6-F16D8C70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885E-41A0-44B7-9F23-EE2DBB8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BF06-A551-4737-9A77-95D711D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5BA-42A1-4258-90E7-81D6926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BF00-861F-4442-B3E9-A6E69A5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A7F8-526D-49DC-AE91-9A0E0D7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E20A-1C64-417F-B24E-090D01C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5C9-C1D1-4A95-BEBA-12A01295E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93CB-AC4A-4F2B-8712-C49DBF9A0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Welcome Back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ST - 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39640" y="40464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chool Learning Support Team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turn to your original table. As a school LST, answer the question in the middle box about next step pri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ba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4" descr="http://1.bp.blogspot.com/-WJyuIJVf-Z8/T8-XsECASbI/AAAAAAAAM-A/Osr1BmXHks0/s320/484.jpg"/>
          <p:cNvPicPr/>
          <p:nvPr/>
        </p:nvPicPr>
        <p:blipFill>
          <a:blip r:embed="rId1"/>
          <a:stretch/>
        </p:blipFill>
        <p:spPr>
          <a:xfrm>
            <a:off x="1116000" y="1628640"/>
            <a:ext cx="6751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forw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2" descr="D:\Users\lsteele\AppData\Local\Microsoft\Windows\Temporary Internet Files\Content.IE5\3UR26J6N\MP900442518[1]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UN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3" descr="MCj02958540000[1]"/>
          <p:cNvPicPr/>
          <p:nvPr/>
        </p:nvPicPr>
        <p:blipFill>
          <a:blip r:embed="rId1"/>
          <a:stretch/>
        </p:blipFill>
        <p:spPr>
          <a:xfrm>
            <a:off x="2971800" y="1981080"/>
            <a:ext cx="3417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reating Conne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ing your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learning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djustments will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2" descr="D:\Users\lsteele\AppData\Local\Microsoft\Windows\Temporary Internet Files\Content.IE5\3UR26J6N\MC900311804[1].wmf"/>
          <p:cNvPicPr/>
          <p:nvPr/>
        </p:nvPicPr>
        <p:blipFill>
          <a:blip r:embed="rId2"/>
          <a:stretch/>
        </p:blipFill>
        <p:spPr>
          <a:xfrm>
            <a:off x="4494240" y="2349360"/>
            <a:ext cx="4649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488360" cy="5545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Student Engagemen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 rot="20025000">
            <a:off x="683280" y="227664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ime On Tas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7"/>
          <p:cNvSpPr/>
          <p:nvPr/>
        </p:nvSpPr>
        <p:spPr>
          <a:xfrm rot="846000">
            <a:off x="4802760" y="2030040"/>
            <a:ext cx="299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Student Compli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2589120" y="3176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od Gra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 rot="21013800">
            <a:off x="1105920" y="44208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Listening to Teac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 rot="20025000">
            <a:off x="4492080" y="4606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king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LE &amp; Student Eng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51240" cy="4919760"/>
          </a:xfrm>
          <a:prstGeom prst="rect">
            <a:avLst/>
          </a:prstGeom>
          <a:ln w="0">
            <a:noFill/>
          </a:ln>
        </p:spPr>
      </p:pic>
      <p:sp>
        <p:nvSpPr>
          <p:cNvPr id="564" name="Oval 5"/>
          <p:cNvSpPr/>
          <p:nvPr/>
        </p:nvSpPr>
        <p:spPr>
          <a:xfrm>
            <a:off x="3995640" y="3800520"/>
            <a:ext cx="1224000" cy="780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5" name="Straight Arrow Connector 7"/>
          <p:cNvCxnSpPr/>
          <p:nvPr/>
        </p:nvCxnSpPr>
        <p:spPr>
          <a:xfrm flipH="1">
            <a:off x="5002920" y="2276280"/>
            <a:ext cx="1513800" cy="1524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 Scenario- Match-Up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Content Placeholder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7280" cy="345744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5580000" y="1557360"/>
            <a:ext cx="32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Scenario to Type of Engagement H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&amp;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our thought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literacy and engag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124080" y="457200"/>
            <a:ext cx="56390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no formulas for good teaching…if we want to grow in our practice, we have two primary places to go: to the inner ground from which good teaching comes and to the community of fellow [educators] from whom we can learn about ourselves and our craft.”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arker Palmer (199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3" descr="MPj03988190000[1]"/>
          <p:cNvPicPr/>
          <p:nvPr/>
        </p:nvPicPr>
        <p:blipFill>
          <a:blip r:embed="rId1"/>
          <a:stretch/>
        </p:blipFill>
        <p:spPr>
          <a:xfrm>
            <a:off x="539640" y="1700280"/>
            <a:ext cx="26146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gging Deep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– Board 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 – Caribbean A/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2" descr="D:\Users\lsteele\AppData\Local\Microsoft\Windows\Temporary Internet Files\Content.IE5\ET61DMEL\MC900383226[1].wmf"/>
          <p:cNvPicPr/>
          <p:nvPr/>
        </p:nvPicPr>
        <p:blipFill>
          <a:blip r:embed="rId3"/>
          <a:stretch/>
        </p:blipFill>
        <p:spPr>
          <a:xfrm>
            <a:off x="2627280" y="3213000"/>
            <a:ext cx="3529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rap U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MPj04331650000[1]"/>
          <p:cNvPicPr/>
          <p:nvPr/>
        </p:nvPicPr>
        <p:blipFill>
          <a:blip r:embed="rId3"/>
          <a:stretch/>
        </p:blipFill>
        <p:spPr>
          <a:xfrm>
            <a:off x="4140360" y="2349360"/>
            <a:ext cx="3487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Essential Ques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reflect on your goals you set this year, what needs to be accomplished between now and Jun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need to put in place for next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e work you are doing contribute to student suc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7093080" y="549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MCj04079540000[1]"/>
          <p:cNvPicPr/>
          <p:nvPr/>
        </p:nvPicPr>
        <p:blipFill>
          <a:blip r:embed="rId4"/>
          <a:stretch/>
        </p:blipFill>
        <p:spPr>
          <a:xfrm>
            <a:off x="7164360" y="18900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genda:  Going Dee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tching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Arial"/>
              </a:rPr>
              <a:t>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on and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iteracy, Engagement and High School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443640" y="1628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500720" y="2492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3" descr="MCj02854660000[1]"/>
          <p:cNvPicPr/>
          <p:nvPr/>
        </p:nvPicPr>
        <p:blipFill>
          <a:blip r:embed="rId1"/>
          <a:stretch/>
        </p:blipFill>
        <p:spPr>
          <a:xfrm>
            <a:off x="4965840" y="1671480"/>
            <a:ext cx="3363840" cy="33782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5960" y="1887120"/>
            <a:ext cx="4008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partner who has the answer to your joke (same #; same col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place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 minutes each; Signal; 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Break:  15 minu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3" descr="MCj00904750000[1]"/>
          <p:cNvPicPr/>
          <p:nvPr/>
        </p:nvPicPr>
        <p:blipFill>
          <a:blip r:embed="rId1"/>
          <a:stretch/>
        </p:blipFill>
        <p:spPr>
          <a:xfrm>
            <a:off x="2743200" y="1905120"/>
            <a:ext cx="36482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change doesn’t happen…and how to make sure it doe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Straight Connector 4"/>
          <p:cNvSpPr/>
          <p:nvPr/>
        </p:nvSpPr>
        <p:spPr>
          <a:xfrm flipV="1">
            <a:off x="3419640" y="1844640"/>
            <a:ext cx="1927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 rot="20931600">
            <a:off x="3560400" y="1042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 read the introductory paragraphs and “Reason 1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, answer questions from that section relating to your school. Record your answers on the placem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eet with your thumb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ogether, discuss your answers to “Reason 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en time is “up”, thank your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dividually read “Reason 2”. Individually, answer questions from that section relating to your school. Record your answers on the placem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eet your pointy finger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ogether, discuss your answers to “Reason 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en time is “up”, thank your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nd so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3” – “Driving”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4” – Ring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son 5” &amp; Final paragraphs – Pin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1:33:32Z</dcterms:created>
  <dc:creator>Rod</dc:creator>
  <dc:description/>
  <dc:language>en-US</dc:language>
  <cp:lastModifiedBy>cchristiebill</cp:lastModifiedBy>
  <dcterms:modified xsi:type="dcterms:W3CDTF">2013-05-27T22:30:44Z</dcterms:modified>
  <cp:revision>253</cp:revision>
  <dc:subject/>
  <dc:title>Leadership and School Results Silins &amp; Mulford</dc:title>
</cp:coreProperties>
</file>